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AB1-AA1B-4E8C-BA9B-DB51E3FE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B55-EABF-4085-9E0A-41B335E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217-764A-4BA6-9594-E6621ECD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B1A-EE2B-4C9C-B609-FFBEC080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560F-2CE0-46F0-9F3F-04883BF2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F391-924B-4EA0-83FD-F02086B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63222-2EE5-4A71-9227-FC887A8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DBA8B-F4E9-464C-B36A-0BCA0999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016BC-83AC-41BA-8196-6066DCDC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2839B-1364-49E7-8ADB-CA61BAF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5DE5D-D524-48CA-822F-EBD2355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F91-FFDD-4CCE-B21B-232C6BA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44FC-A127-483A-84C8-0FDB1A1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3A14A-62B6-47FD-8DF1-06EAAAF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A2357-A751-4DD5-985D-B04C0949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1D5A-7720-479B-B000-0AEC83CF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BCF26-426B-4DC2-B649-10678A13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492F-ED72-4D6E-9416-73B24824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9DDF-459E-4965-9B1A-702C372A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022E-7284-4E17-A514-2B68CE0D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B3C2-4891-4AFA-AEEE-33799046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663A-3BC9-4C40-8E83-83B92F89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E7E-F8E8-4966-91E9-9086F70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76CC-4451-45A3-ABAA-06FD9300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CDCF-2733-47CF-8E8F-5C62527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1C3A-F849-48CF-B8D8-BCE0A35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6676-7DC4-4AF8-9D6B-FBFE12E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F2D1-3C41-482F-91E2-5DE2ACB6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3B44-E81D-40A3-87E6-194ED5C1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FC6C-08B7-4BFE-8E56-2DB0CD84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D80-038C-403A-BA55-1F94CBE5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D0E-9A50-4D7B-BC54-4B0EA0D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F5F-6CF5-4B22-9CEC-7CEACCF1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719-F8EC-4776-917D-CF25874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F76-AEE7-46D6-819F-0A75A97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8B2-0B23-45B1-A648-14E7302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057-6C39-4645-8357-22DDA927B98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DBA-4D66-4935-BE83-6D8D24FD522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09A-E4F7-4012-9041-91A3BABFAF6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e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doub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rigonal plan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2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e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,4-dimethyl 1-hex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47840" y="2349360"/>
            <a:ext cx="60692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yne and 2-buty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130640" cy="162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24360" y="4076640"/>
            <a:ext cx="491328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trip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4-hexadiy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844380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4,5-dimethyl 2,6-octadiy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629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DOUB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doub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doub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 thi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ethyl 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54120" y="3068640"/>
            <a:ext cx="6273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let’s draw 1-butene and 2-but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bu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58680" y="3141720"/>
            <a:ext cx="3157560" cy="237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61080" y="2924280"/>
            <a:ext cx="3348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a structure with more than one double bo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penta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4886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put everything together and nam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-3,6-dimethyl 1,2,4-oc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63640" y="2781360"/>
            <a:ext cx="6757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astereom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following compound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s-2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-2-but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methyl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prop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500560" cy="110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228840" y="310356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57680" y="3071880"/>
            <a:ext cx="2901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least one triple bond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linear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80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unsaturated” because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y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dentify and name th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longest carbon chain that CONTAINS THE TRIPLE BOND(S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umber the carbons in the chain so that the two carbons involved in the triple bond have the lowest possible number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the triple bond is equidistant from both ends, number the chain so that the substituent(s) have the lowest possibly number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llow same rules for identifying and naming prefix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27:28Z</dcterms:modified>
  <cp:revision>57</cp:revision>
  <dc:subject/>
  <dc:title>Intro to organic chemistry (orgo)</dc:title>
</cp:coreProperties>
</file>